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DATTILO.WAV" ContentType="audio/x-wav"/>
  <Override PartName="/ppt/media/LASER.WAV" ContentType="audio/x-wav"/>
  <Override PartName="/ppt/media/PROMEMOR.WAV" ContentType="audio/x-wav"/>
  <Override PartName="/ppt/media/FOTO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F7D4-4893-4B82-9711-FADBC08B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CC0-763F-4ABD-8564-DCFFB485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B564-E3E4-4307-9FC2-5A9B2B48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2EA-7E52-4003-A3FD-C9E9F36B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F509-CC60-41D9-A073-216F7530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9D5-8A9B-48C1-B62A-C1973A49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BE2-A80D-4CC8-A148-BF4FD26F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C0D2-5C82-45AB-A72A-127B7231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FD6-B2BE-4AFA-B18E-CABFD59B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710-4FCF-4D10-997E-724779B8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947-6418-46FD-AB3C-B742964F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602-5454-4189-8E55-7BA25588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05AF-7FEA-475D-9E51-E80FD5859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ATTILO.WAV"/><Relationship Id="rId3" Type="http://schemas.openxmlformats.org/officeDocument/2006/relationships/audio" Target="../media/DATTILO.WAV"/><Relationship Id="rId4" Type="http://schemas.openxmlformats.org/officeDocument/2006/relationships/audio" Target="../media/DATTILO.WAV"/><Relationship Id="rId5" Type="http://schemas.openxmlformats.org/officeDocument/2006/relationships/audio" Target="../media/DATTILO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MEMO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FOTO.WAV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audio" Target="../media/FOTO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cde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5867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3048120"/>
            <a:ext cx="15242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1981080"/>
            <a:ext cx="3124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5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9920" y="3657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d0a6"/>
            </a:gs>
            <a:gs pos="50000">
              <a:srgbClr val="ccffcc"/>
            </a:gs>
            <a:gs pos="100000">
              <a:srgbClr val="a6d0a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05520" y="2743200"/>
            <a:ext cx="2133360" cy="2133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1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9920" y="4724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25909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95280" y="464832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019920" y="3809880"/>
            <a:ext cx="304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48640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95680" y="2133720"/>
            <a:ext cx="3353040" cy="335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4630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3719520"/>
            <a:ext cx="157320" cy="90360"/>
          </a:xfrm>
          <a:custGeom>
            <a:avLst/>
            <a:gdLst/>
            <a:ahLst/>
            <a:rect l="l" t="t" r="r" b="b"/>
            <a:pathLst>
              <a:path w="99" h="57">
                <a:moveTo>
                  <a:pt x="0" y="57"/>
                </a:moveTo>
                <a:lnTo>
                  <a:pt x="99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19920" y="3719520"/>
            <a:ext cx="152280" cy="90360"/>
          </a:xfrm>
          <a:custGeom>
            <a:avLst/>
            <a:gdLst/>
            <a:ahLst/>
            <a:rect l="l" t="t" r="r" b="b"/>
            <a:pathLst>
              <a:path w="96" h="57">
                <a:moveTo>
                  <a:pt x="96" y="57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3809880"/>
            <a:ext cx="0" cy="152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674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19920" y="53341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86400" y="3809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86000" y="1219320"/>
            <a:ext cx="4572000" cy="4572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18288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3657600" y="1295280"/>
            <a:ext cx="502920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86200" y="1523880"/>
            <a:ext cx="4572000" cy="457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5468760"/>
            <a:ext cx="152280" cy="15264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66680" y="463068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3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3848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0100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19920" y="5943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1480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07732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5880" y="1447920"/>
            <a:ext cx="15264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14880" y="3719520"/>
            <a:ext cx="317520" cy="184320"/>
          </a:xfrm>
          <a:custGeom>
            <a:avLst/>
            <a:gdLst/>
            <a:ahLst/>
            <a:rect l="l" t="t" r="r" b="b"/>
            <a:pathLst>
              <a:path w="200" h="116">
                <a:moveTo>
                  <a:pt x="200" y="0"/>
                </a:moveTo>
                <a:lnTo>
                  <a:pt x="0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4880" y="3719520"/>
            <a:ext cx="314640" cy="184320"/>
          </a:xfrm>
          <a:custGeom>
            <a:avLst/>
            <a:gdLst/>
            <a:ahLst/>
            <a:rect l="l" t="t" r="r" b="b"/>
            <a:pathLst>
              <a:path w="198" h="116">
                <a:moveTo>
                  <a:pt x="0" y="0"/>
                </a:moveTo>
                <a:lnTo>
                  <a:pt x="198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38680" y="38862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124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19360" y="1752480"/>
            <a:ext cx="4190760" cy="4191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22860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5334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209680"/>
            <a:ext cx="15264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4680" y="525780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52578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220968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1706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05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ttle 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657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bd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438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986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4510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582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18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1523880"/>
            <a:ext cx="3962160" cy="4953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960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2057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6172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1523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3809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6095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19810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2057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19051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6019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3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1752480"/>
            <a:ext cx="33526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48520" y="2438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458200" y="28954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4876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743200" y="2057400"/>
            <a:ext cx="3809880" cy="380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1480" y="278928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MEM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 rot="16200000">
            <a:off x="3886200" y="1676160"/>
            <a:ext cx="480060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419360" y="22096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1676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5272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4419360" y="60199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822816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441972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16765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54100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67080" y="20574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20574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77320" y="5867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58672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1:31:05Z</dcterms:created>
  <dc:creator>Navispelog - 4° Reparto Fari</dc:creator>
  <dc:description/>
  <dc:language>en-US</dc:language>
  <cp:lastModifiedBy>CIL</cp:lastModifiedBy>
  <dcterms:modified xsi:type="dcterms:W3CDTF">2006-10-18T14:25:40Z</dcterms:modified>
  <cp:revision>49</cp:revision>
  <dc:subject/>
  <dc:title>MARICOLTURE</dc:title>
</cp:coreProperties>
</file>